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CDF7CAE-6D6B-4F8B-88DC-7535A9495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CE2BB8CE-AD69-43AA-B090-32AC816CF02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17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29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16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172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175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179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183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187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191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195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199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203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207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211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215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243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248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251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256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272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275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280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285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290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295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300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15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318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38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cc0000"/>
                </a:solidFill>
                <a:latin typeface="Arial"/>
              </a:rPr>
              <a:t>Automaatliide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51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370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387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4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01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6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08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14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16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2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35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9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0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42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8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50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466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475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484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493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502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512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6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18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23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528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2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34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580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85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90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595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608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9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610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3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614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624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629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3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635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6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637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0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641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646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651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656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0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662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3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664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668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673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678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683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689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0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691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4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695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700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705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710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716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7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718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1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722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727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732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737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743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4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745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8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749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754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759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764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8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772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776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0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1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782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787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792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6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8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807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814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819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824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831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836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841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848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853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858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4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865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870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875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1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882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887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894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6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: vaata sissejuhatu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21T06:45:33Z</dcterms:modified>
  <cp:revision>44</cp:revision>
  <dc:subject/>
  <dc:title>No Slide Title</dc:title>
</cp:coreProperties>
</file>